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FC53B-6672-4F93-9360-540E895F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CF5E8-A3F2-4569-9360-CCE1C3CD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0D7BE-12BB-4EA9-93E2-87399AD1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6B648-7E8F-496D-864B-4728408D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2640-3D56-4FFB-A2F7-765ACE3A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43CA-A79D-4C37-AC3F-54CE5C2F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62E9-CCB6-4F29-BF14-BE25D988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105C-938C-4C77-8C41-973E1F5E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A7B7-E670-4378-BA04-D638C61E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4CEF-782E-447F-8ED2-DDB52DAE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682A-4EB4-4C21-BC68-516C64D6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5FFDC-F1AE-47AF-AA66-93E23995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3808-3FA9-4054-B55A-8FF7A6AA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C07E-632C-42C8-AD1F-4F788C6E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6F57-007C-46D3-97FE-ABB7813D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0594-3EC0-4604-AEBD-3121AD5B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5261-31C0-46F8-8601-A892947F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7884-1AB5-43F8-A785-DDAB1816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AFFBE-349A-4BE0-B9F2-4F47CB4C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68620-5830-4BAB-AA26-41EBF568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824A4-8107-47AA-A3CC-080DE25F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F7F71-3CED-480E-A12F-AF554A90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8A612-2A1C-4F97-970D-C38EC273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4BE24-2435-4F67-9533-DFBD94BB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136B-1138-4578-8A3A-7BA6FDC4EFA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D8F1-5F16-4B19-9780-E0696C74CF2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1448640"/>
            <a:ext cx="95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 (639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Напред, о, ратниц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Господний мощен строй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пред със доблестни сърц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в свещения тоз бой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1749600"/>
            <a:ext cx="100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пред, о, ратниц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ъм братство, свобода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пред към светлий хоризон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Господа Хрис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175032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3. Напред, о, ратниц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към славно тържество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ваший подвиг се наде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Христово войнство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-252360" y="1750320"/>
            <a:ext cx="95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 Развейте знамет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Господа Христа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пред, о, ратници, напред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ъм братство, свобода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/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0-05-01T15:27:34Z</dcterms:modified>
  <cp:revision>148</cp:revision>
  <dc:subject/>
  <dc:title>Slide 1</dc:title>
</cp:coreProperties>
</file>